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jpeg" ContentType="image/jpeg"/>
  <Override PartName="/ppt/media/image10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8C6-3776-4E86-AD53-FC68B12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C9F-7031-4478-9B48-CD2CFD2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5C1-F2E1-434D-AF09-90FCF5FA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D07-0C64-4E93-9409-C32DC2D9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390-27B2-4A53-8A47-C9A1392D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963-BE25-4785-8865-BF4CDD9B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8C8-04A1-4FE3-956F-18D2676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284-1FAF-4EE9-9534-12118193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7F0-168F-4DA9-8301-2906F456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CB0-9BD9-4426-A596-89E5CED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84C-5D3B-4656-9FB0-445AB584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2DF-F3C9-4FD5-B353-A69AAF43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99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01C6-FF71-4628-80CC-212DB2C6DC98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bcm.biz/wp-content/uploads/2016/02/11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k.wikipedia.org/wiki/&#1060;&#1072;&#1081;&#1083;:Agriculture_in_Volgograd_Oblast_001.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lsehood.me/_/rsrc/1398583953070/home/additions/prilozenie-3/image002.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bg.wikipedia.org/wiki/&#1060;&#1072;&#1081;&#1083;:ChestotnoBiene.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Bookman Old Style"/>
              </a:rPr>
              <a:t>Тригонометрията в различни сфери на жив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Стефка Елмая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ПГСА – Пазардж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Bookman Old Style"/>
              </a:rPr>
              <a:t>Постоянен и променлив 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71680" y="2642760"/>
            <a:ext cx="361476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Диаграма на синусоидално електрическо напре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4" descr="C:\Users\רות\Desktop\изслед.Е\AC-DC-current-graph ток.png"/>
          <p:cNvPicPr/>
          <p:nvPr/>
        </p:nvPicPr>
        <p:blipFill>
          <a:blip r:embed="rId1"/>
          <a:stretch/>
        </p:blipFill>
        <p:spPr>
          <a:xfrm>
            <a:off x="428760" y="1857240"/>
            <a:ext cx="45385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Тригонометричната нивелация е метод за определяне превишения и изчисление на надморски  височини на точки от земния релеф.Извършва се чрез измерване на зенитни (вертикални) ъгли, хоризонтални разстояния и при изчислението се отчитат известните на оператора - геодезист височина на измервателния инструмент </a:t>
            </a:r>
            <a:br>
              <a:rPr sz="2400"/>
            </a:b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28592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Lenovo\Desktop\Unidad_06_imagen_017.jpg"/>
          <p:cNvPicPr/>
          <p:nvPr/>
        </p:nvPicPr>
        <p:blipFill>
          <a:blip r:embed="rId1"/>
          <a:stretch/>
        </p:blipFill>
        <p:spPr>
          <a:xfrm>
            <a:off x="785880" y="2786040"/>
            <a:ext cx="7358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Триангулацият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е метод в тригонометрия и елементарната геометрия, за определяне на разстоянието до обекти, като се използва геометрията на триъгълниците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Lenovo\Desktop\744px-Distance_by_triangulation.svg.png"/>
          <p:cNvPicPr/>
          <p:nvPr/>
        </p:nvPicPr>
        <p:blipFill>
          <a:blip r:embed="rId1"/>
          <a:stretch/>
        </p:blipFill>
        <p:spPr>
          <a:xfrm>
            <a:off x="2214720" y="2467080"/>
            <a:ext cx="5143320" cy="2176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Lenovo\Desktop\02a000ffe5f335fb96366bb9b42f4916.png"/>
          <p:cNvPicPr/>
          <p:nvPr/>
        </p:nvPicPr>
        <p:blipFill>
          <a:blip r:embed="rId2"/>
          <a:stretch/>
        </p:blipFill>
        <p:spPr>
          <a:xfrm>
            <a:off x="1285920" y="5072040"/>
            <a:ext cx="3357360" cy="642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Users\Lenovo\Desktop\dd9dfe17c7504e6cc73fa07537605aa3.png"/>
          <p:cNvPicPr/>
          <p:nvPr/>
        </p:nvPicPr>
        <p:blipFill>
          <a:blip r:embed="rId3"/>
          <a:stretch/>
        </p:blipFill>
        <p:spPr>
          <a:xfrm>
            <a:off x="5286240" y="4929120"/>
            <a:ext cx="2714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СФЕРИЧНА ТРИГОНОМЕТР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5" descr=""/>
          <p:cNvPicPr/>
          <p:nvPr/>
        </p:nvPicPr>
        <p:blipFill>
          <a:blip r:embed="rId1"/>
          <a:stretch/>
        </p:blipFill>
        <p:spPr>
          <a:xfrm>
            <a:off x="5072040" y="1785960"/>
            <a:ext cx="3500640" cy="3487680"/>
          </a:xfrm>
          <a:prstGeom prst="rect">
            <a:avLst/>
          </a:prstGeom>
          <a:ln w="0">
            <a:noFill/>
          </a:ln>
        </p:spPr>
      </p:pic>
      <p:pic>
        <p:nvPicPr>
          <p:cNvPr id="78" name="Content Placeholder 6" descr=""/>
          <p:cNvPicPr/>
          <p:nvPr/>
        </p:nvPicPr>
        <p:blipFill>
          <a:blip r:embed="rId2"/>
          <a:stretch/>
        </p:blipFill>
        <p:spPr>
          <a:xfrm>
            <a:off x="214200" y="2643120"/>
            <a:ext cx="4429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ригонометрията намира голямо приложение при изучаване на звуковите и светлинни явления и процеси. хармоничните(синусови)дви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Documents and Settings\DELL\Desktop\geogebra\sin-treptenia.png2.png"/>
          <p:cNvPicPr/>
          <p:nvPr/>
        </p:nvPicPr>
        <p:blipFill>
          <a:blip r:embed="rId1"/>
          <a:stretch/>
        </p:blipFill>
        <p:spPr>
          <a:xfrm>
            <a:off x="1143000" y="2532240"/>
            <a:ext cx="678672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lang="bg-BG" sz="2800" spc="-1" strike="noStrike">
                <a:solidFill>
                  <a:srgbClr val="000000"/>
                </a:solidFill>
                <a:latin typeface="Arial"/>
              </a:rPr>
              <a:t>Живота върви по синусоида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3280" y="2286000"/>
            <a:ext cx="40435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Синусоидата е навсякъде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където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има колебания и промени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А.И.Пригожин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Content Placeholder 4" descr="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292480"/>
            <a:ext cx="4209840" cy="31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Обект 1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Об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Обект 1"/>
          <p:cNvGraphicFramePr/>
          <p:nvPr/>
        </p:nvGraphicFramePr>
        <p:xfrm>
          <a:off x="800280" y="514440"/>
          <a:ext cx="7543800" cy="58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Об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514440"/>
                    <a:ext cx="754380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0" descr="ctg.png11"/>
          <p:cNvPicPr/>
          <p:nvPr/>
        </p:nvPicPr>
        <p:blipFill>
          <a:blip r:embed="rId1"/>
          <a:srcRect l="0" t="0" r="13233" b="0"/>
          <a:stretch/>
        </p:blipFill>
        <p:spPr>
          <a:xfrm>
            <a:off x="2627280" y="457200"/>
            <a:ext cx="6192720" cy="3403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0760" y="-5299920"/>
            <a:ext cx="5605560" cy="115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Тангенс  и котангенс – братя,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ако ги умножим няма фу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да получим, нито ъгъ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а число и то е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                                                  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Иван Консулов          </a:t>
            </a:r>
            <a:r>
              <a:rPr b="0" lang="bg-BG" sz="11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Ах, тези фун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авоъгълник 3"/>
          <p:cNvSpPr/>
          <p:nvPr/>
        </p:nvSpPr>
        <p:spPr>
          <a:xfrm>
            <a:off x="4716360" y="546120"/>
            <a:ext cx="3959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Bookman Old Style"/>
              </a:rPr>
              <a:t>Математиката  просто е чудес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Bookman Old Style"/>
              </a:rPr>
              <a:t>но честно казано не ми е лесна.</a:t>
            </a:r>
            <a:r>
              <a:rPr b="0" lang="bg-BG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Формули, теореми, ле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 тях задачата решава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криво-ляво без пробле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Госпожата ме изкара на дъска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о какво да правя аз горка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като не знам как да е ре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 със сигурност ще е сгреш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Ах, тези функции тригонометрич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четни, нечетни, периодичн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ограничени отгоре и отдолу,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 графика вълнообразна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ме затрудняват ежечас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 тогава взех реш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да се заема с уче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ече със задачите да се не мъ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и формулите да нау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Надя Терзийс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8" descr="C:\Documents and Settings\DELL\Desktop\ПКС-1\t-ctg-ch.png"/>
          <p:cNvPicPr/>
          <p:nvPr/>
        </p:nvPicPr>
        <p:blipFill>
          <a:blip r:embed="rId1"/>
          <a:srcRect l="0" t="0" r="11921" b="0"/>
          <a:stretch/>
        </p:blipFill>
        <p:spPr>
          <a:xfrm>
            <a:off x="260280" y="2205000"/>
            <a:ext cx="32814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611280" y="333360"/>
            <a:ext cx="813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„ 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Великата книга на природата може да бъде прочетена само от тези, които знаят езика на който е написана и това е езика на математиката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Галилео Галилей 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(1564 - 16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Геоцентрическая система мира Птолемея"/>
          <p:cNvPicPr/>
          <p:nvPr/>
        </p:nvPicPr>
        <p:blipFill>
          <a:blip r:embed="rId1"/>
          <a:stretch/>
        </p:blipFill>
        <p:spPr>
          <a:xfrm>
            <a:off x="0" y="2008080"/>
            <a:ext cx="4067280" cy="373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5"/>
          <p:cNvPicPr/>
          <p:nvPr/>
        </p:nvPicPr>
        <p:blipFill>
          <a:blip r:embed="rId2"/>
          <a:stretch/>
        </p:blipFill>
        <p:spPr>
          <a:xfrm>
            <a:off x="4140360" y="2997360"/>
            <a:ext cx="4857480" cy="1935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250920" y="587700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Геоцетричната система в света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932360" y="5373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1 градус след Слънцето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4"/>
          <p:cNvSpPr txBox="1"/>
          <p:nvPr/>
        </p:nvSpPr>
        <p:spPr>
          <a:xfrm>
            <a:off x="1619280" y="2349360"/>
            <a:ext cx="6192720" cy="17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БЛАГОДАРЯ ЗА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ВНИМАНИЕТО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18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Bookman Old Style"/>
                <a:ea typeface="Calibri"/>
              </a:rPr>
              <a:t>„</a:t>
            </a:r>
            <a:r>
              <a:rPr b="1" lang="bg-BG" sz="3200" spc="-1" strike="noStrike">
                <a:solidFill>
                  <a:srgbClr val="000000"/>
                </a:solidFill>
                <a:latin typeface="Bookman Old Style"/>
                <a:ea typeface="Calibri"/>
              </a:rPr>
              <a:t>Много за функциите узн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r>
              <a:rPr b="1" lang="bg-BG" sz="3200" spc="-1" strike="noStrike">
                <a:solidFill>
                  <a:srgbClr val="000000"/>
                </a:solidFill>
                <a:latin typeface="Bookman Old Style"/>
                <a:ea typeface="Calibri"/>
              </a:rPr>
              <a:t>и разбрах : Без тях не може!!!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43280" y="189000"/>
            <a:ext cx="4248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Bookman Old Style"/>
              </a:rPr>
              <a:t>Много части на селскостопанските машини описват интересни линии. По-специално всяка точка от ножчетата на режещият апарат на комбайните описват косинусоида  (всяко ножче участва в две движения- възвратно постъпателно и праволинейно с цялата машина).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Картина 1" descr="https://upload.wikimedia.org/wikipedia/commons/thumb/7/79/Agriculture_in_Volgograd_Oblast_001.JPG/220px-Agriculture_in_Volgograd_Oblast_0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572000" cy="343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"/>
          <p:cNvPicPr/>
          <p:nvPr/>
        </p:nvPicPr>
        <p:blipFill>
          <a:blip r:embed="rId3"/>
          <a:stretch/>
        </p:blipFill>
        <p:spPr>
          <a:xfrm>
            <a:off x="1692360" y="401004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2920" y="692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Графичен запис на електрическите явления на сърцето електрокардиограма - синусоида</a:t>
            </a:r>
            <a:r>
              <a:rPr b="1" lang="bg-BG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http://static.framar.bg/filestore/ekg2.jpg"/>
          <p:cNvPicPr/>
          <p:nvPr/>
        </p:nvPicPr>
        <p:blipFill>
          <a:blip r:embed="rId1"/>
          <a:stretch/>
        </p:blipFill>
        <p:spPr>
          <a:xfrm>
            <a:off x="1619280" y="2243160"/>
            <a:ext cx="612144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042920" y="76500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200" spc="-1" strike="noStrike">
                <a:solidFill>
                  <a:srgbClr val="000000"/>
                </a:solidFill>
                <a:latin typeface="Bookman Old Style"/>
              </a:rPr>
              <a:t>Уравнението на времето – разлика между времето, което показва редовните часове, и времето което показва слънчев часовник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Картина 5" descr="http://www.falsehood.me/_/rsrc/1398583953070/home/additions/prilozenie-3/image0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565360"/>
            <a:ext cx="7561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835280" y="62064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Честотно биене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Картина 31" descr="https://upload.wikimedia.org/wikipedia/commons/thumb/7/77/ChestotnoBiene.PNG/250px-ChestotnoBien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43040"/>
            <a:ext cx="4824360" cy="439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5435640" y="2492280"/>
            <a:ext cx="302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Илюстрация показваща честотно биене (синия сигнал най-долу) получено при събиране на два синусоидални сигнала с разлика в честотите 20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 </a:t>
            </a:r>
            <a:r>
              <a:rPr b="1" lang="bg-BG" sz="2000" spc="-1" strike="noStrike">
                <a:solidFill>
                  <a:srgbClr val="000000"/>
                </a:solidFill>
                <a:latin typeface="Bookman Old Style"/>
              </a:rPr>
              <a:t>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403280" y="476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Безконтактен лазерен измерител на разстоянието между две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Red Point Measure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http://www.yankodesign.com/images/design_news/2009/02/09/red_point_measure_2.jpg"/>
          <p:cNvPicPr/>
          <p:nvPr/>
        </p:nvPicPr>
        <p:blipFill>
          <a:blip r:embed="rId1"/>
          <a:stretch/>
        </p:blipFill>
        <p:spPr>
          <a:xfrm>
            <a:off x="341280" y="2133720"/>
            <a:ext cx="3732120" cy="417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yankodesign.com/images/design_news/2009/02/09/red_point_measure_4.jpg"/>
          <p:cNvPicPr/>
          <p:nvPr/>
        </p:nvPicPr>
        <p:blipFill>
          <a:blip r:embed="rId2"/>
          <a:stretch/>
        </p:blipFill>
        <p:spPr>
          <a:xfrm>
            <a:off x="4427640" y="2227320"/>
            <a:ext cx="44654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39640" y="476280"/>
            <a:ext cx="80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Компютърният приемник решава четири уравнения с четири неизвестни до тогава, докато намери решение при което трите окръжности минават през една точка</a:t>
            </a:r>
            <a:r>
              <a:rPr b="0" lang="bg-BG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1"/>
          <a:stretch/>
        </p:blipFill>
        <p:spPr>
          <a:xfrm>
            <a:off x="2252520" y="2133720"/>
            <a:ext cx="4276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64000" y="1197000"/>
            <a:ext cx="360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При всички ескалатори можем да изчислим заложената дълбочина,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като определим дължината на стълбите, знаейки разстоянието между осветителните тела и техния брой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bg-BG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Картина 3" descr="Резултат с изображение за схема на ескалатори"/>
          <p:cNvPicPr/>
          <p:nvPr/>
        </p:nvPicPr>
        <p:blipFill>
          <a:blip r:embed="rId1"/>
          <a:stretch/>
        </p:blipFill>
        <p:spPr>
          <a:xfrm>
            <a:off x="0" y="0"/>
            <a:ext cx="5003640" cy="3191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1"/>
          <p:cNvPicPr/>
          <p:nvPr/>
        </p:nvPicPr>
        <p:blipFill>
          <a:blip r:embed="rId2"/>
          <a:stretch/>
        </p:blipFill>
        <p:spPr>
          <a:xfrm>
            <a:off x="0" y="3716280"/>
            <a:ext cx="500364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1:15:23Z</dcterms:created>
  <dc:creator>pc</dc:creator>
  <dc:description/>
  <dc:language>en-US</dc:language>
  <cp:lastModifiedBy>רות דניאל</cp:lastModifiedBy>
  <dcterms:modified xsi:type="dcterms:W3CDTF">2016-11-30T19:45:46Z</dcterms:modified>
  <cp:revision>30</cp:revision>
  <dc:subject/>
  <dc:title>Тригонометрията в различни сфери на живота</dc:title>
</cp:coreProperties>
</file>